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49627"/>
        <c:axId val="90332996"/>
      </c:barChart>
      <c:catAx>
        <c:axId val="30049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32996"/>
        <c:crosses val="autoZero"/>
        <c:auto val="1"/>
        <c:lblAlgn val="ctr"/>
        <c:lblOffset val="100"/>
        <c:noMultiLvlLbl val="0"/>
      </c:catAx>
      <c:valAx>
        <c:axId val="90332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9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33C-F955-4B2D-9B9F-608B1C8A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CD6-5AA9-4AE2-ACD8-3298A69F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6C0-8A93-47A1-B9BB-0BE6F54D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293-3FD4-49D4-AC58-899DA6E8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376-2A0C-4B5E-9F50-28C14354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D19-678A-471C-ACCF-402D3A8D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EC1-6A8A-4A76-A5A1-F90B094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64C-E9B0-4362-A5BD-B6891A7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3F7-8FE5-4D1F-82ED-02F6A13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0ED-7201-4401-883B-62A63CB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A4F-801D-40CC-8908-D7CE7F5F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47D-D17C-4A57-B313-5449A2D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898AB-ECE2-496A-A6F9-BAA754EFDC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