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52384"/>
        <c:axId val="57342191"/>
      </c:barChart>
      <c:catAx>
        <c:axId val="69352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2191"/>
        <c:crosses val="autoZero"/>
        <c:auto val="1"/>
        <c:lblAlgn val="ctr"/>
        <c:lblOffset val="100"/>
        <c:noMultiLvlLbl val="0"/>
      </c:catAx>
      <c:valAx>
        <c:axId val="57342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2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B4D-A8D4-4F24-A3B4-627D441F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603-51AF-4F8F-AB30-87B97E9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47C-62E3-4F2B-8528-91BDDB2B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C93-78FC-403F-B80E-7C166F9C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DD5-C1EC-426E-8742-4B53E33E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52E-85DF-42C7-95A0-7B54472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8E8-7347-4E26-A8D6-91AC14E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5FB-BFE3-4298-8536-9AD352BD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6E7-45BE-420D-AA5A-4942C44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174-D868-46D2-9B01-82840A7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6D1-3B46-4A91-B4D4-29C6650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DB9-31C3-4EEA-88FA-42A929F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E0B13-B2F8-4293-ABF2-CBCFAA6EA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