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9159864"/>
        <c:axId val="34684088"/>
      </c:barChart>
      <c:catAx>
        <c:axId val="8915986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684088"/>
        <c:crosses val="autoZero"/>
        <c:auto val="1"/>
        <c:lblAlgn val="ctr"/>
        <c:lblOffset val="100"/>
        <c:noMultiLvlLbl val="0"/>
      </c:catAx>
      <c:valAx>
        <c:axId val="3468408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15986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793FD-BA2E-4E72-8B5A-078A44BB9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3E435-9775-4396-8629-9A4639797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1412D-8FFD-4FE7-8082-E8666AE2A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85C28-0FF0-4398-998D-7670E0938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C3554-F89E-4638-BC01-0F9FAC02D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B5F56-BAC5-41FA-BAD6-98F3AAE7C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D7D8F-B6C5-4397-A888-F7E64611B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FEE24-DBB2-4F81-AD2E-27FF4A94B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25B08-3A81-4BD8-8B7A-AA1407D9B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B1F94-9F9D-4670-95E0-AC03B460E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A83F3-A978-4D23-B6A3-5E41BF64D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581FC-C3F6-4DD4-9222-9940DB61C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FC2E63-80B6-40C8-AFF6-BD15EDC73A6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