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44700"/>
        <c:axId val="4227706"/>
      </c:barChart>
      <c:catAx>
        <c:axId val="44944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7706"/>
        <c:crosses val="autoZero"/>
        <c:auto val="1"/>
        <c:lblAlgn val="ctr"/>
        <c:lblOffset val="100"/>
        <c:noMultiLvlLbl val="0"/>
      </c:catAx>
      <c:valAx>
        <c:axId val="4227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44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645-C142-4EC7-8DAE-A76D5337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F3A-575E-4D5F-8FC6-FE1A1C5C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8AF-D2B2-4B3C-8B7F-65E08F38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F6A-E5D0-4CC6-89A8-2C2041C9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06F-ECA8-4CCC-8AA8-AE2EFD58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FCB-85FB-4FF8-AFCC-05CD3D25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049-40B5-48F7-A473-E0E22695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5DC-8DBB-4BDC-9A77-A58C5FA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769-C302-46C9-B1E9-33EB555D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774-2823-44CE-B5EF-34D06693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BDC-B497-49ED-80F2-00E3D70F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573C-F1A7-455B-8540-2B526156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C3F65-545E-422C-B69C-5DC297A0D2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